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A92-DD7E-45D0-8A75-5C19F249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B45-BC63-429B-BCB0-DEBB4FCC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A57-B678-4C05-AA43-24D4ADC2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E0C-1E4E-42F1-9069-10B3EFED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0B32-14D5-4082-B78A-0D42F13A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F5F0-7DF8-4208-A078-7FEE8A8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D2B3-A2FB-4400-9809-87CFDAF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8401-5081-4BFD-9528-A3436778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D3DA-4559-4163-A714-EF24FDC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E514-DF6D-41F5-8494-408EC567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BC9E-7D92-4918-86EA-94963D0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593-1ECF-471E-AD18-72BDA022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764D-8B74-48EF-9FC1-E4A0ABC9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9ECE-4F13-4F31-B0BE-E1BC05B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56B-A661-45F1-BFCE-2F00696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D9F5-A218-4C50-B80B-8D644286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8C24-DB97-4050-9AA7-C7F10FF5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E66-A9AF-43CF-BF3B-0CDECF0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095-27B4-442A-92CD-BF34AB2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070-C194-4818-9FC4-2A637CC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42B-FC88-4314-8883-A53A4C77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F34-6290-44C5-8C89-3B9FDE00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5EE-27D2-43E8-B055-2E66951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643-1491-4854-9969-8B324BA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EA81-23F0-46CE-B5C8-FE72CB81A7A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4A46-597F-4BD1-8424-5EA249C877E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835280" y="1916280"/>
            <a:ext cx="469260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ill Everyone F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411280" y="4724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ke Asht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6"/>
          <p:cNvSpPr/>
          <p:nvPr/>
        </p:nvSpPr>
        <p:spPr>
          <a:xfrm>
            <a:off x="414036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25892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Olympic track dimen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340000" y="2637000"/>
            <a:ext cx="2952720" cy="2087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340000" y="2492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2484360" y="2852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27672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70036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How many people will fit in a mete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5640" y="1916280"/>
            <a:ext cx="865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700360" y="2565360"/>
            <a:ext cx="3600360" cy="2808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47640" y="3789360"/>
            <a:ext cx="8654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1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2987640" y="4292640"/>
            <a:ext cx="1008000" cy="86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4932360" y="4292640"/>
            <a:ext cx="1008000" cy="86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4932360" y="2852640"/>
            <a:ext cx="1008000" cy="8654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3059280" y="2781360"/>
            <a:ext cx="1008000" cy="86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7093080" y="364500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=4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How many meters are t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14036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1258920" y="2637000"/>
            <a:ext cx="2197080" cy="2087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340000" y="2637000"/>
            <a:ext cx="2952720" cy="2087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340000" y="2492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484360" y="2852640"/>
            <a:ext cx="0" cy="1728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27672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70036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659640" y="2349360"/>
            <a:ext cx="20160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0m*70m=630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5m(2)*pi=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384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6300m+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3848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,148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How many people will fit i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10,148m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*4=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GB" sz="6000" spc="-1" strike="noStrike">
                <a:solidFill>
                  <a:srgbClr val="ffffff"/>
                </a:solidFill>
                <a:latin typeface="Verdana"/>
              </a:rPr>
              <a:t>40,592 people will fit into an Olympic athletic track.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6:43Z</dcterms:created>
  <dc:creator>jake ashton</dc:creator>
  <dc:description/>
  <dc:language>en-US</dc:language>
  <cp:lastModifiedBy> </cp:lastModifiedBy>
  <dcterms:modified xsi:type="dcterms:W3CDTF">2010-06-12T11:56:20Z</dcterms:modified>
  <cp:revision>2</cp:revision>
  <dc:subject/>
  <dc:title>Slide 1</dc:title>
</cp:coreProperties>
</file>